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520-335A-4A79-9E22-C87EFCBC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ABD-C840-4CA9-8DC2-AA90ADEA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A1D-FCA6-4C2D-BDBD-1D8E90BE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711-0223-4B24-A054-0E259881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BE5A-013D-4B47-9AD7-35BE3D8A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B47B-036F-480B-A0CC-0C1DC60B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EB9-9963-426D-870F-F3242F8F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5EC0-F8B4-4181-A68F-2EA9466E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0F9F-E6D7-441D-835A-EED5361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2915-803D-4D00-9753-6B83E105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AF48-DB80-46A2-8B50-1E918EE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8B7-7C18-4F31-B9BF-A19E428D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F890-BFE4-4AF8-A382-296233C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A902-93A3-491F-A2F2-40E1071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C780-DD9D-44BC-A922-1378E60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8760-0EBA-4CFD-928D-256CA8E3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9DDE-B71C-4FD7-8540-25BEB8A5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FA7-75B2-464B-9DF5-2105186D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200-A0DD-47EA-99DA-15C7E68E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6FC-6C09-4382-AEA6-329D262E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E59-AA34-4CC8-8DE9-A9172566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509-B857-4FC9-BAC8-7AEE9243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742-351F-439C-A459-7E2EA8D6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F26-4211-4A3A-94CD-84624B8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E110-60B8-4D15-9A06-559D191C3CE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B39-9FED-439E-BFBE-E06EBE0E056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219320"/>
            <a:ext cx="876312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concess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portaria de concessão do Ministro de Estado de Minas e Energi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autoriz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expedição de alvará de autorização do Diretor Geral do Departamento Nacional de Produção Mineral – DNP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I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licenciament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licença expedida em obediência a regulamentos administrativos locais e de registro da licença no Departamento Nacional de Produção Mineral – DNP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permissão de lavra garimp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quando depender de portaria de permissão do Diretor Geral do Departamento Nacional de Produção Mineral – DNP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regime de monopolização, quando, em virtude de lei especial, depender de execução direta ou indireta do Governo Feder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O disposto neste artigo não se aplica aos órgãos da administração direta e autárquica da União, dos Estado, do Distrito Federal e dos Municípios, sendo-lhes permitida a extração de substâncias minerais de emprego imediato na construção civil, definidas em Portaria do Ministério de Minas e Energia, para uso exclusivo em obras públicas por eles executadas diretamente, respeitados os direitos minerários em vigor nas áreas onde devam ser executadas as obras e vedada a comercialização.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ime de extr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907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640" y="200160"/>
            <a:ext cx="759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-Lei n° 227/67 – Código de M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. 2° - Os regimes de aproveitamento das substâncias minerai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efeito deste Código s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22:51:09Z</dcterms:modified>
  <cp:revision>76</cp:revision>
  <dc:subject/>
  <dc:title>Apresentação do PowerPoint</dc:title>
</cp:coreProperties>
</file>